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artyhorn.wav" ContentType="audio/x-wav"/>
  <Override PartName="/ppt/media/boinng04.wav" ContentType="audio/x-wav"/>
  <Override PartName="/ppt/media/fastcar.wav" ContentType="audio/x-wav"/>
  <Override PartName="/ppt/media/trhorn04.wav" ContentType="audio/x-wav"/>
  <Override PartName="/ppt/media/highchime.wav" ContentType="audio/x-wav"/>
  <Override PartName="/ppt/media/camera.wav" ContentType="audio/x-wav"/>
  <Override PartName="/ppt/media/zipdn102.wav" ContentType="audio/x-wav"/>
  <Override PartName="/ppt/media/hzipup01.wav" ContentType="audio/x-wav"/>
  <Override PartName="/ppt/media/glass.wav" ContentType="audio/x-wav"/>
  <Override PartName="/ppt/media/caralarmoff.wav" ContentType="audio/x-wav"/>
  <Override PartName="/ppt/media/children%20wow.wav" ContentType="audio/x-wav"/>
  <Override PartName="/ppt/media/PROJCTOR.WAV" ContentType="audio/x-wav"/>
  <Override PartName="/ppt/media/doorbl07.wav" ContentType="audio/x-wav"/>
  <Override PartName="/ppt/media/cricket.wav" ContentType="audio/x-wav"/>
  <Override PartName="/ppt/media/zipby102.wav" ContentType="audio/x-wav"/>
  <Override PartName="/ppt/media/laser.wav" ContentType="audio/x-wav"/>
  <Override PartName="/ppt/media/zapbig0g.wav" ContentType="audio/x-wav"/>
  <Override PartName="/ppt/media/kid%20yea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940E-4BA4-497A-B1DA-EC3C0D0A4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404E-2FEF-4914-85DA-5DAB88B1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E38A-49BC-420F-B042-3B9114053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37E9-FFF5-4202-8386-E90E76835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C30E-7A1E-4EE8-9182-D285C5EB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6D95-8C66-40E5-A7CD-E53ADE64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DC92-CC39-48BC-ADA3-E7FD87B7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174A-ED49-4E61-B9CD-26DA496B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4E6C-1D11-43C5-98FF-7DE60BA0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0574-F30F-443C-8295-B9570FD4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29CD-914E-41C3-A961-D4DAB546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78C8-4A09-4526-A59C-25A65CE2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C6FE-68AB-4AA8-B144-9BE646D08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hzipup01.wav"/><Relationship Id="rId5" Type="http://schemas.openxmlformats.org/officeDocument/2006/relationships/audio" Target="../media/caralarmoff.wav"/><Relationship Id="rId6" Type="http://schemas.openxmlformats.org/officeDocument/2006/relationships/audio" Target="../media/hzipup01.wav"/><Relationship Id="rId7" Type="http://schemas.openxmlformats.org/officeDocument/2006/relationships/audio" Target="../media/caralarmoff.wav"/><Relationship Id="rId8" Type="http://schemas.openxmlformats.org/officeDocument/2006/relationships/audio" Target="../media/caralarmoff.wav"/><Relationship Id="rId9" Type="http://schemas.openxmlformats.org/officeDocument/2006/relationships/audio" Target="../media/zipdn102.wav"/><Relationship Id="rId10" Type="http://schemas.openxmlformats.org/officeDocument/2006/relationships/audio" Target="../media/zipdn102.wav"/><Relationship Id="rId11" Type="http://schemas.openxmlformats.org/officeDocument/2006/relationships/audio" Target="../media/zipdn102.wav"/><Relationship Id="rId12" Type="http://schemas.openxmlformats.org/officeDocument/2006/relationships/audio" Target="../media/zipdn102.wav"/><Relationship Id="rId13" Type="http://schemas.openxmlformats.org/officeDocument/2006/relationships/audio" Target="../media/zipdn102.wav"/><Relationship Id="rId14" Type="http://schemas.openxmlformats.org/officeDocument/2006/relationships/audio" Target="../media/children%20wow.wav"/><Relationship Id="rId15" Type="http://schemas.openxmlformats.org/officeDocument/2006/relationships/audio" Target="../media/children%20wow.wav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hzipup01.wav"/><Relationship Id="rId3" Type="http://schemas.openxmlformats.org/officeDocument/2006/relationships/audio" Target="../media/caralarmoff.wav"/><Relationship Id="rId4" Type="http://schemas.openxmlformats.org/officeDocument/2006/relationships/audio" Target="../media/hzipup01.wav"/><Relationship Id="rId5" Type="http://schemas.openxmlformats.org/officeDocument/2006/relationships/audio" Target="../media/caralarmoff.wav"/><Relationship Id="rId6" Type="http://schemas.openxmlformats.org/officeDocument/2006/relationships/audio" Target="../media/doorbl07.wav"/><Relationship Id="rId7" Type="http://schemas.openxmlformats.org/officeDocument/2006/relationships/audio" Target="../media/doorbl07.wav"/><Relationship Id="rId8" Type="http://schemas.openxmlformats.org/officeDocument/2006/relationships/audio" Target="../media/doorbl07.wav"/><Relationship Id="rId9" Type="http://schemas.openxmlformats.org/officeDocument/2006/relationships/audio" Target="../media/doorbl07.wav"/><Relationship Id="rId10" Type="http://schemas.openxmlformats.org/officeDocument/2006/relationships/audio" Target="../media/trhorn04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hzipup01.wav"/><Relationship Id="rId14" Type="http://schemas.openxmlformats.org/officeDocument/2006/relationships/audio" Target="../media/children%20wow.wav"/><Relationship Id="rId15" Type="http://schemas.openxmlformats.org/officeDocument/2006/relationships/audio" Target="../media/zipby102.wav"/><Relationship Id="rId16" Type="http://schemas.openxmlformats.org/officeDocument/2006/relationships/audio" Target="../media/boinng04.wav"/><Relationship Id="rId17" Type="http://schemas.openxmlformats.org/officeDocument/2006/relationships/audio" Target="../media/zipby102.wav"/><Relationship Id="rId18" Type="http://schemas.openxmlformats.org/officeDocument/2006/relationships/audio" Target="../media/boinng04.wav"/><Relationship Id="rId19" Type="http://schemas.openxmlformats.org/officeDocument/2006/relationships/audio" Target="../media/hzipup01.wav"/><Relationship Id="rId20" Type="http://schemas.openxmlformats.org/officeDocument/2006/relationships/audio" Target="../media/children%20wow.wav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hzipup01.wav"/><Relationship Id="rId3" Type="http://schemas.openxmlformats.org/officeDocument/2006/relationships/audio" Target="../media/caralarmoff.wav"/><Relationship Id="rId4" Type="http://schemas.openxmlformats.org/officeDocument/2006/relationships/audio" Target="../media/hzipup01.wav"/><Relationship Id="rId5" Type="http://schemas.openxmlformats.org/officeDocument/2006/relationships/audio" Target="../media/caralarmoff.wav"/><Relationship Id="rId6" Type="http://schemas.openxmlformats.org/officeDocument/2006/relationships/audio" Target="../media/caralarmoff.wav"/><Relationship Id="rId7" Type="http://schemas.openxmlformats.org/officeDocument/2006/relationships/audio" Target="../media/zipdn102.wav"/><Relationship Id="rId8" Type="http://schemas.openxmlformats.org/officeDocument/2006/relationships/audio" Target="../media/zipdn102.wav"/><Relationship Id="rId9" Type="http://schemas.openxmlformats.org/officeDocument/2006/relationships/audio" Target="../media/zipdn102.wav"/><Relationship Id="rId10" Type="http://schemas.openxmlformats.org/officeDocument/2006/relationships/audio" Target="../media/zipdn102.wav"/><Relationship Id="rId11" Type="http://schemas.openxmlformats.org/officeDocument/2006/relationships/audio" Target="../media/zipdn102.wav"/><Relationship Id="rId12" Type="http://schemas.openxmlformats.org/officeDocument/2006/relationships/audio" Target="../media/children%20wow.wav"/><Relationship Id="rId13" Type="http://schemas.openxmlformats.org/officeDocument/2006/relationships/audio" Target="../media/children%20wow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caralarmoff.wav"/><Relationship Id="rId5" Type="http://schemas.openxmlformats.org/officeDocument/2006/relationships/audio" Target="../media/caralarmoff.wav"/><Relationship Id="rId6" Type="http://schemas.openxmlformats.org/officeDocument/2006/relationships/audio" Target="../media/caralarmoff.wav"/><Relationship Id="rId7" Type="http://schemas.openxmlformats.org/officeDocument/2006/relationships/audio" Target="../media/caralarmoff.wav"/><Relationship Id="rId8" Type="http://schemas.openxmlformats.org/officeDocument/2006/relationships/audio" Target="../media/zapbig0g.wav"/><Relationship Id="rId9" Type="http://schemas.openxmlformats.org/officeDocument/2006/relationships/audio" Target="../media/zipdn102.wav"/><Relationship Id="rId10" Type="http://schemas.openxmlformats.org/officeDocument/2006/relationships/audio" Target="../media/zipdn102.wav"/><Relationship Id="rId11" Type="http://schemas.openxmlformats.org/officeDocument/2006/relationships/audio" Target="../media/zipdn102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partyhorn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zipdn102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zipdn102.wav"/><Relationship Id="rId21" Type="http://schemas.openxmlformats.org/officeDocument/2006/relationships/audio" Target="../media/laser.wav"/><Relationship Id="rId22" Type="http://schemas.openxmlformats.org/officeDocument/2006/relationships/audio" Target="../media/laser.wav"/><Relationship Id="rId23" Type="http://schemas.openxmlformats.org/officeDocument/2006/relationships/audio" Target="../media/zipdn102.wav"/><Relationship Id="rId24" Type="http://schemas.openxmlformats.org/officeDocument/2006/relationships/audio" Target="../media/hzipup01.wav"/><Relationship Id="rId25" Type="http://schemas.openxmlformats.org/officeDocument/2006/relationships/audio" Target="../media/boinng04.wav"/><Relationship Id="rId26" Type="http://schemas.openxmlformats.org/officeDocument/2006/relationships/audio" Target="../media/boinng04.wav"/><Relationship Id="rId27" Type="http://schemas.openxmlformats.org/officeDocument/2006/relationships/audio" Target="../media/trhorn04.wav"/><Relationship Id="rId28" Type="http://schemas.openxmlformats.org/officeDocument/2006/relationships/audio" Target="../media/zapbig0g.wav"/><Relationship Id="rId29" Type="http://schemas.openxmlformats.org/officeDocument/2006/relationships/audio" Target="../media/hzipup01.wav"/><Relationship Id="rId30" Type="http://schemas.openxmlformats.org/officeDocument/2006/relationships/audio" Target="../media/children%20wow.wav"/><Relationship Id="rId31" Type="http://schemas.openxmlformats.org/officeDocument/2006/relationships/audio" Target="../media/zipby102.wav"/><Relationship Id="rId32" Type="http://schemas.openxmlformats.org/officeDocument/2006/relationships/audio" Target="../media/boinng04.wav"/><Relationship Id="rId33" Type="http://schemas.openxmlformats.org/officeDocument/2006/relationships/audio" Target="../media/zipby102.wav"/><Relationship Id="rId34" Type="http://schemas.openxmlformats.org/officeDocument/2006/relationships/audio" Target="../media/boinng04.wav"/><Relationship Id="rId35" Type="http://schemas.openxmlformats.org/officeDocument/2006/relationships/audio" Target="../media/hzipup01.wav"/><Relationship Id="rId36" Type="http://schemas.openxmlformats.org/officeDocument/2006/relationships/audio" Target="../media/children%20wow.wav"/><Relationship Id="rId3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caralarmoff.wav"/><Relationship Id="rId5" Type="http://schemas.openxmlformats.org/officeDocument/2006/relationships/audio" Target="../media/caralarmoff.wav"/><Relationship Id="rId6" Type="http://schemas.openxmlformats.org/officeDocument/2006/relationships/audio" Target="../media/caralarmoff.wav"/><Relationship Id="rId7" Type="http://schemas.openxmlformats.org/officeDocument/2006/relationships/audio" Target="../media/caralarmoff.wav"/><Relationship Id="rId8" Type="http://schemas.openxmlformats.org/officeDocument/2006/relationships/audio" Target="../media/zapbig0g.wav"/><Relationship Id="rId9" Type="http://schemas.openxmlformats.org/officeDocument/2006/relationships/audio" Target="../media/zipdn102.wav"/><Relationship Id="rId10" Type="http://schemas.openxmlformats.org/officeDocument/2006/relationships/audio" Target="../media/zipdn102.wav"/><Relationship Id="rId11" Type="http://schemas.openxmlformats.org/officeDocument/2006/relationships/audio" Target="../media/zipdn102.wav"/><Relationship Id="rId12" Type="http://schemas.openxmlformats.org/officeDocument/2006/relationships/audio" Target="../media/zipdn102.wav"/><Relationship Id="rId13" Type="http://schemas.openxmlformats.org/officeDocument/2006/relationships/audio" Target="../media/zipdn102.wav"/><Relationship Id="rId14" Type="http://schemas.openxmlformats.org/officeDocument/2006/relationships/audio" Target="../media/zipdn102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zipdn102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zipdn102.wav"/><Relationship Id="rId23" Type="http://schemas.openxmlformats.org/officeDocument/2006/relationships/audio" Target="../media/zipdn102.wav"/><Relationship Id="rId24" Type="http://schemas.openxmlformats.org/officeDocument/2006/relationships/audio" Target="../media/hzipup01.wav"/><Relationship Id="rId25" Type="http://schemas.openxmlformats.org/officeDocument/2006/relationships/audio" Target="../media/hzipup01.wav"/><Relationship Id="rId26" Type="http://schemas.openxmlformats.org/officeDocument/2006/relationships/audio" Target="../media/hzipup01.wav"/><Relationship Id="rId27" Type="http://schemas.openxmlformats.org/officeDocument/2006/relationships/audio" Target="../media/doorbl07.wav"/><Relationship Id="rId28" Type="http://schemas.openxmlformats.org/officeDocument/2006/relationships/audio" Target="../media/doorbl07.wav"/><Relationship Id="rId29" Type="http://schemas.openxmlformats.org/officeDocument/2006/relationships/audio" Target="../media/trhorn04.wav"/><Relationship Id="rId30" Type="http://schemas.openxmlformats.org/officeDocument/2006/relationships/audio" Target="../media/zapbig0g.wav"/><Relationship Id="rId31" Type="http://schemas.openxmlformats.org/officeDocument/2006/relationships/audio" Target="../media/cricket.wav"/><Relationship Id="rId32" Type="http://schemas.openxmlformats.org/officeDocument/2006/relationships/audio" Target="../media/cricket.wav"/><Relationship Id="rId33" Type="http://schemas.openxmlformats.org/officeDocument/2006/relationships/audio" Target="../media/cricket.wav"/><Relationship Id="rId34" Type="http://schemas.openxmlformats.org/officeDocument/2006/relationships/audio" Target="../media/cricket.wav"/><Relationship Id="rId35" Type="http://schemas.openxmlformats.org/officeDocument/2006/relationships/audio" Target="../media/boinng04.wav"/><Relationship Id="rId36" Type="http://schemas.openxmlformats.org/officeDocument/2006/relationships/audio" Target="../media/boinng04.wav"/><Relationship Id="rId37" Type="http://schemas.openxmlformats.org/officeDocument/2006/relationships/audio" Target="../media/boinng04.wav"/><Relationship Id="rId38" Type="http://schemas.openxmlformats.org/officeDocument/2006/relationships/audio" Target="../media/hzipup01.wav"/><Relationship Id="rId39" Type="http://schemas.openxmlformats.org/officeDocument/2006/relationships/audio" Target="../media/hzipup01.wav"/><Relationship Id="rId40" Type="http://schemas.openxmlformats.org/officeDocument/2006/relationships/audio" Target="../media/hzipup01.wav"/><Relationship Id="rId41" Type="http://schemas.openxmlformats.org/officeDocument/2006/relationships/audio" Target="../media/hzipup01.wav"/><Relationship Id="rId42" Type="http://schemas.openxmlformats.org/officeDocument/2006/relationships/audio" Target="../media/hzipup01.wav"/><Relationship Id="rId43" Type="http://schemas.openxmlformats.org/officeDocument/2006/relationships/audio" Target="../media/kid%20yeah.wav"/><Relationship Id="rId44" Type="http://schemas.openxmlformats.org/officeDocument/2006/relationships/audio" Target="../media/kid%20yeah.wav"/><Relationship Id="rId4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highchime.wav"/><Relationship Id="rId3" Type="http://schemas.openxmlformats.org/officeDocument/2006/relationships/audio" Target="../media/partyhorn.wav"/><Relationship Id="rId4" Type="http://schemas.openxmlformats.org/officeDocument/2006/relationships/audio" Target="../media/zipby102.wav"/><Relationship Id="rId5" Type="http://schemas.openxmlformats.org/officeDocument/2006/relationships/audio" Target="../media/zapbig0g.wav"/><Relationship Id="rId6" Type="http://schemas.openxmlformats.org/officeDocument/2006/relationships/audio" Target="../media/caralarmoff.wav"/><Relationship Id="rId7" Type="http://schemas.openxmlformats.org/officeDocument/2006/relationships/audio" Target="../media/partyhorn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caralarmoff.wav"/><Relationship Id="rId3" Type="http://schemas.openxmlformats.org/officeDocument/2006/relationships/audio" Target="../media/caralarmoff.wav"/><Relationship Id="rId4" Type="http://schemas.openxmlformats.org/officeDocument/2006/relationships/audio" Target="../media/highchime.wav"/><Relationship Id="rId5" Type="http://schemas.openxmlformats.org/officeDocument/2006/relationships/audio" Target="../media/boinng04.wav"/><Relationship Id="rId6" Type="http://schemas.openxmlformats.org/officeDocument/2006/relationships/audio" Target="../media/fastcar.wav"/><Relationship Id="rId7" Type="http://schemas.openxmlformats.org/officeDocument/2006/relationships/audio" Target="../media/fastcar.wav"/><Relationship Id="rId8" Type="http://schemas.openxmlformats.org/officeDocument/2006/relationships/audio" Target="../media/zipby102.wav"/><Relationship Id="rId9" Type="http://schemas.openxmlformats.org/officeDocument/2006/relationships/audio" Target="../media/caralarmoff.wav"/><Relationship Id="rId10" Type="http://schemas.openxmlformats.org/officeDocument/2006/relationships/audio" Target="../media/caralarmoff.wav"/><Relationship Id="rId11" Type="http://schemas.openxmlformats.org/officeDocument/2006/relationships/audio" Target="../media/boinng04.wav"/><Relationship Id="rId12" Type="http://schemas.openxmlformats.org/officeDocument/2006/relationships/audio" Target="../media/caralarmoff.wav"/><Relationship Id="rId13" Type="http://schemas.openxmlformats.org/officeDocument/2006/relationships/audio" Target="../media/caralarmoff.wav"/><Relationship Id="rId14" Type="http://schemas.openxmlformats.org/officeDocument/2006/relationships/audio" Target="../media/boinng04.wav"/><Relationship Id="rId15" Type="http://schemas.openxmlformats.org/officeDocument/2006/relationships/audio" Target="../media/caralarmoff.wav"/><Relationship Id="rId16" Type="http://schemas.openxmlformats.org/officeDocument/2006/relationships/audio" Target="../media/caralarmoff.wav"/><Relationship Id="rId17" Type="http://schemas.openxmlformats.org/officeDocument/2006/relationships/audio" Target="../media/boinng04.wav"/><Relationship Id="rId18" Type="http://schemas.openxmlformats.org/officeDocument/2006/relationships/audio" Target="../media/hzipup01.wav"/><Relationship Id="rId19" Type="http://schemas.openxmlformats.org/officeDocument/2006/relationships/audio" Target="../media/caralarmoff.wav"/><Relationship Id="rId20" Type="http://schemas.openxmlformats.org/officeDocument/2006/relationships/audio" Target="../media/caralarmoff.wav"/><Relationship Id="rId21" Type="http://schemas.openxmlformats.org/officeDocument/2006/relationships/audio" Target="../media/boinng04.wav"/><Relationship Id="rId22" Type="http://schemas.openxmlformats.org/officeDocument/2006/relationships/audio" Target="../media/caralarmoff.wav"/><Relationship Id="rId23" Type="http://schemas.openxmlformats.org/officeDocument/2006/relationships/audio" Target="../media/caralarmoff.wav"/><Relationship Id="rId24" Type="http://schemas.openxmlformats.org/officeDocument/2006/relationships/audio" Target="../media/boinng04.wav"/><Relationship Id="rId25" Type="http://schemas.openxmlformats.org/officeDocument/2006/relationships/audio" Target="../media/caralarmoff.wav"/><Relationship Id="rId26" Type="http://schemas.openxmlformats.org/officeDocument/2006/relationships/audio" Target="../media/caralarmoff.wav"/><Relationship Id="rId27" Type="http://schemas.openxmlformats.org/officeDocument/2006/relationships/audio" Target="../media/boinng04.wav"/><Relationship Id="rId28" Type="http://schemas.openxmlformats.org/officeDocument/2006/relationships/audio" Target="../media/hzipup01.wav"/><Relationship Id="rId2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caralarmoff.wav"/><Relationship Id="rId3" Type="http://schemas.openxmlformats.org/officeDocument/2006/relationships/audio" Target="../media/caralarmoff.wav"/><Relationship Id="rId4" Type="http://schemas.openxmlformats.org/officeDocument/2006/relationships/audio" Target="../media/highchime.wav"/><Relationship Id="rId5" Type="http://schemas.openxmlformats.org/officeDocument/2006/relationships/audio" Target="../media/boinng04.wav"/><Relationship Id="rId6" Type="http://schemas.openxmlformats.org/officeDocument/2006/relationships/audio" Target="../media/fastcar.wav"/><Relationship Id="rId7" Type="http://schemas.openxmlformats.org/officeDocument/2006/relationships/audio" Target="../media/fastcar.wav"/><Relationship Id="rId8" Type="http://schemas.openxmlformats.org/officeDocument/2006/relationships/audio" Target="../media/zipby102.wav"/><Relationship Id="rId9" Type="http://schemas.openxmlformats.org/officeDocument/2006/relationships/audio" Target="../media/caralarmoff.wav"/><Relationship Id="rId10" Type="http://schemas.openxmlformats.org/officeDocument/2006/relationships/audio" Target="../media/caralarmoff.wav"/><Relationship Id="rId11" Type="http://schemas.openxmlformats.org/officeDocument/2006/relationships/audio" Target="../media/boinng04.wav"/><Relationship Id="rId12" Type="http://schemas.openxmlformats.org/officeDocument/2006/relationships/audio" Target="../media/caralarmoff.wav"/><Relationship Id="rId13" Type="http://schemas.openxmlformats.org/officeDocument/2006/relationships/audio" Target="../media/caralarmoff.wav"/><Relationship Id="rId14" Type="http://schemas.openxmlformats.org/officeDocument/2006/relationships/audio" Target="../media/boinng04.wav"/><Relationship Id="rId15" Type="http://schemas.openxmlformats.org/officeDocument/2006/relationships/audio" Target="../media/caralarmoff.wav"/><Relationship Id="rId16" Type="http://schemas.openxmlformats.org/officeDocument/2006/relationships/audio" Target="../media/caralarmoff.wav"/><Relationship Id="rId17" Type="http://schemas.openxmlformats.org/officeDocument/2006/relationships/audio" Target="../media/boinng04.wav"/><Relationship Id="rId18" Type="http://schemas.openxmlformats.org/officeDocument/2006/relationships/audio" Target="../media/hzipup01.wav"/><Relationship Id="rId19" Type="http://schemas.openxmlformats.org/officeDocument/2006/relationships/audio" Target="../media/caralarmoff.wav"/><Relationship Id="rId20" Type="http://schemas.openxmlformats.org/officeDocument/2006/relationships/audio" Target="../media/caralarmoff.wav"/><Relationship Id="rId21" Type="http://schemas.openxmlformats.org/officeDocument/2006/relationships/audio" Target="../media/boinng04.wav"/><Relationship Id="rId22" Type="http://schemas.openxmlformats.org/officeDocument/2006/relationships/audio" Target="../media/caralarmoff.wav"/><Relationship Id="rId23" Type="http://schemas.openxmlformats.org/officeDocument/2006/relationships/audio" Target="../media/caralarmoff.wav"/><Relationship Id="rId24" Type="http://schemas.openxmlformats.org/officeDocument/2006/relationships/audio" Target="../media/boinng04.wav"/><Relationship Id="rId25" Type="http://schemas.openxmlformats.org/officeDocument/2006/relationships/audio" Target="../media/caralarmoff.wav"/><Relationship Id="rId26" Type="http://schemas.openxmlformats.org/officeDocument/2006/relationships/audio" Target="../media/caralarmoff.wav"/><Relationship Id="rId27" Type="http://schemas.openxmlformats.org/officeDocument/2006/relationships/audio" Target="../media/boinng04.wav"/><Relationship Id="rId28" Type="http://schemas.openxmlformats.org/officeDocument/2006/relationships/audio" Target="../media/hzipup01.wav"/><Relationship Id="rId2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53880" y="1666800"/>
                <a:ext cx="316080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w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oss Multiply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841320" y="3162240"/>
                <a:ext cx="240840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168120" y="116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lve the equation by cross multiply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094200" y="3260880"/>
                <a:ext cx="13428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1828800" y="2054160"/>
            <a:ext cx="1025640" cy="65268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200320" y="2054160"/>
            <a:ext cx="690480" cy="54144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728640" y="3881520"/>
                <a:ext cx="458964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w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555480" y="4659480"/>
                <a:ext cx="47563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725400" y="4867200"/>
                <a:ext cx="7272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519280" y="4870440"/>
                <a:ext cx="7272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392120" y="4732200"/>
                <a:ext cx="10065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102120" y="4707000"/>
                <a:ext cx="10620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66720" y="5538960"/>
                <a:ext cx="167652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360520" y="5543640"/>
                <a:ext cx="206712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52320" y="1685880"/>
                <a:ext cx="383220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oss Multiply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42880" y="3236760"/>
                <a:ext cx="21844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168120" y="116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lve the equation by cross multiply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619360" y="3224160"/>
                <a:ext cx="24066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2220840" y="2109960"/>
            <a:ext cx="970200" cy="59688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554200" y="2109600"/>
            <a:ext cx="933480" cy="54108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631960" y="3822840"/>
                <a:ext cx="14558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0" y="3808440"/>
                <a:ext cx="14572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504720" y="4602240"/>
            <a:ext cx="4757760" cy="0"/>
          </a:xfrm>
          <a:prstGeom prst="line">
            <a:avLst/>
          </a:prstGeom>
          <a:ln w="381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782720" y="4516560"/>
                <a:ext cx="9525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679840" y="4521240"/>
                <a:ext cx="13986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395360" y="3795840"/>
                <a:ext cx="128736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890880" y="3819600"/>
                <a:ext cx="128916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120760" y="5950080"/>
                <a:ext cx="6159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709720" y="5781600"/>
                <a:ext cx="14576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1866960" y="5221440"/>
            <a:ext cx="82080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68800" y="5224320"/>
            <a:ext cx="82044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041560" y="5168880"/>
                <a:ext cx="5605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444840" y="5153040"/>
                <a:ext cx="5605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flipH="1">
            <a:off x="1622160" y="3395520"/>
            <a:ext cx="803160" cy="1063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136680" y="3435480"/>
            <a:ext cx="803160" cy="1063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rhorn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19000" y="1685880"/>
                <a:ext cx="282600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oss Multiply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8120" y="116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lve the equation by cross multiply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2109960"/>
            <a:ext cx="671400" cy="59688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901880" y="2109600"/>
            <a:ext cx="933480" cy="54108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092240" y="3162240"/>
                <a:ext cx="19051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094200" y="3260880"/>
                <a:ext cx="13428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008000" y="3881520"/>
                <a:ext cx="402912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55480" y="4659480"/>
                <a:ext cx="47563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884160" y="4754520"/>
                <a:ext cx="4478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676600" y="4778280"/>
                <a:ext cx="44604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262160" y="4732200"/>
                <a:ext cx="10062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129120" y="4680000"/>
                <a:ext cx="10062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777960" y="5538960"/>
                <a:ext cx="145260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500200" y="5543640"/>
                <a:ext cx="178776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95280" y="1873080"/>
                <a:ext cx="5316480" cy="147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ing to Find the LC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8120" y="116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lve the equation by multiplying by the LC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950760" y="3164040"/>
                <a:ext cx="190512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389400" y="2058840"/>
                <a:ext cx="56016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4840" y="1727280"/>
                <a:ext cx="18270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309840" y="3586320"/>
                <a:ext cx="5587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401840" y="3214800"/>
                <a:ext cx="131904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 flipV="1">
            <a:off x="1157400" y="2873520"/>
            <a:ext cx="1790640" cy="280800"/>
          </a:xfrm>
          <a:prstGeom prst="line">
            <a:avLst/>
          </a:prstGeom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859120" y="2297160"/>
                <a:ext cx="6174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130480" y="1542960"/>
                <a:ext cx="18270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492880" y="1695600"/>
                <a:ext cx="18270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 flipV="1">
            <a:off x="279360" y="1939680"/>
            <a:ext cx="225360" cy="33804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0" y="1565280"/>
                <a:ext cx="4572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 flipV="1">
            <a:off x="1104840" y="3360240"/>
            <a:ext cx="169920" cy="41292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00120" y="1979640"/>
            <a:ext cx="1363680" cy="3016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387440" y="3438000"/>
            <a:ext cx="1401840" cy="28260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525760" y="1758960"/>
            <a:ext cx="1363680" cy="3016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311640" y="2882520"/>
            <a:ext cx="1401480" cy="28260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703680" y="3560760"/>
                <a:ext cx="10065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 flipV="1">
            <a:off x="5587920" y="1891800"/>
            <a:ext cx="262080" cy="3574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199120" y="2809440"/>
            <a:ext cx="395280" cy="35892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614840" y="3543480"/>
                <a:ext cx="2627280" cy="78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638520" y="4181400"/>
                <a:ext cx="35784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913360" y="4700520"/>
                <a:ext cx="12877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463920" y="4726080"/>
                <a:ext cx="12891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 flipH="1">
            <a:off x="6216480" y="4346640"/>
            <a:ext cx="803520" cy="1063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76400" y="5440320"/>
            <a:ext cx="4757760" cy="0"/>
          </a:xfrm>
          <a:prstGeom prst="line">
            <a:avLst/>
          </a:prstGeom>
          <a:ln w="381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929040" y="5354640"/>
                <a:ext cx="5032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575240" y="5359320"/>
                <a:ext cx="14540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7010280" y="5835600"/>
                <a:ext cx="6159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7543800" y="5678640"/>
                <a:ext cx="10098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5078520" y="6095880"/>
            <a:ext cx="82080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99000" y="6095880"/>
            <a:ext cx="82044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280120" y="6016680"/>
                <a:ext cx="5047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902040" y="5996160"/>
                <a:ext cx="50472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5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trhorn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66560" y="1873080"/>
                <a:ext cx="5173920" cy="147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ing to Find the LC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8120" y="116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lve the equation by multiplying by the LC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87440" y="3141720"/>
                <a:ext cx="15206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844880" y="2208240"/>
                <a:ext cx="56052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28760" y="1463760"/>
                <a:ext cx="12985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060560" y="3746520"/>
                <a:ext cx="60300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897200" y="3146400"/>
                <a:ext cx="154296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 flipV="1">
            <a:off x="1157400" y="2873520"/>
            <a:ext cx="1790640" cy="280800"/>
          </a:xfrm>
          <a:prstGeom prst="line">
            <a:avLst/>
          </a:prstGeom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707000" y="2297160"/>
                <a:ext cx="6174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 flipV="1">
            <a:off x="541440" y="1641240"/>
            <a:ext cx="1120680" cy="24444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82480" y="3323880"/>
            <a:ext cx="1346400" cy="374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42880" y="2091960"/>
            <a:ext cx="1047960" cy="24444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957320" y="3346200"/>
            <a:ext cx="1401840" cy="28260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805120" y="1647720"/>
            <a:ext cx="1214280" cy="3016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498840" y="2882880"/>
            <a:ext cx="1308240" cy="26352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596960" y="3693960"/>
                <a:ext cx="241452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927600" y="3622680"/>
                <a:ext cx="27334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025640" y="4373640"/>
                <a:ext cx="10872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87240" y="4883040"/>
                <a:ext cx="946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408640" y="4884840"/>
                <a:ext cx="946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 flipH="1">
            <a:off x="1025280" y="4410000"/>
            <a:ext cx="549000" cy="966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50760" y="5429160"/>
            <a:ext cx="5418360" cy="0"/>
          </a:xfrm>
          <a:prstGeom prst="line">
            <a:avLst/>
          </a:prstGeom>
          <a:ln w="381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154160" y="5440320"/>
                <a:ext cx="9144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003400" y="5307120"/>
                <a:ext cx="115416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100160" y="6024600"/>
                <a:ext cx="388764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6715080" y="4976640"/>
                <a:ext cx="20192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976400" y="5443560"/>
                <a:ext cx="6174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96720" y="1913040"/>
                <a:ext cx="12988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744640" y="1522440"/>
                <a:ext cx="12988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695680" y="1971720"/>
                <a:ext cx="12985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5640480" y="1992240"/>
                <a:ext cx="12985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5608800" y="2441520"/>
                <a:ext cx="12985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027160" y="4289400"/>
                <a:ext cx="19368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895560" y="4307040"/>
                <a:ext cx="25495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962440" y="5419800"/>
                <a:ext cx="12906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152960" y="5398920"/>
                <a:ext cx="119052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935440" y="5494320"/>
                <a:ext cx="6174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154400" y="5616720"/>
                <a:ext cx="561960" cy="33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122560" y="6242040"/>
                <a:ext cx="5414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487680" y="6203880"/>
                <a:ext cx="54144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567160" y="6076800"/>
                <a:ext cx="93492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938760" y="6021360"/>
                <a:ext cx="88560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683400" y="5614920"/>
                <a:ext cx="15699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000"/>
                            </p:stCondLst>
                            <p:childTnLst>
                              <p:par>
                                <p:cTn id="4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500"/>
                            </p:stCondLst>
                            <p:childTnLst>
                              <p:par>
                                <p:cTn id="4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trhorn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kid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kid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28600" y="1301760"/>
            <a:ext cx="8686800" cy="53020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85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phing a Rational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2880" y="1382760"/>
            <a:ext cx="860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graph of the rational 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759120" y="4113360"/>
                <a:ext cx="16257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695680" y="1747800"/>
                <a:ext cx="3752640" cy="17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</m:den>
                    </m:f>
                    <m:r>
                      <m:t xml:space="preserve">+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239760" y="3476520"/>
            <a:ext cx="864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 a hyperbola whose center 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4440" y="5141880"/>
            <a:ext cx="863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Vertical and horizontal asymptotes are drawn through the cen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52440" y="1117440"/>
                <a:ext cx="756756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Sketch the graph of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phing a Rational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241280" y="2254320"/>
                <a:ext cx="19148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enter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114720" y="2203560"/>
                <a:ext cx="11970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91" name=""/>
          <p:cNvGrpSpPr/>
          <p:nvPr/>
        </p:nvGrpSpPr>
        <p:grpSpPr>
          <a:xfrm>
            <a:off x="4672080" y="2724120"/>
            <a:ext cx="3713040" cy="3751200"/>
            <a:chOff x="4672080" y="2724120"/>
            <a:chExt cx="3713040" cy="3751200"/>
          </a:xfrm>
        </p:grpSpPr>
        <p:grpSp>
          <p:nvGrpSpPr>
            <p:cNvPr id="192" name=""/>
            <p:cNvGrpSpPr/>
            <p:nvPr/>
          </p:nvGrpSpPr>
          <p:grpSpPr>
            <a:xfrm>
              <a:off x="4689360" y="2757600"/>
              <a:ext cx="3657600" cy="3657600"/>
              <a:chOff x="4689360" y="2757600"/>
              <a:chExt cx="3657600" cy="3657600"/>
            </a:xfrm>
          </p:grpSpPr>
          <p:sp>
            <p:nvSpPr>
              <p:cNvPr id="193" name=""/>
              <p:cNvSpPr/>
              <p:nvPr/>
            </p:nvSpPr>
            <p:spPr>
              <a:xfrm>
                <a:off x="4689360" y="3672000"/>
                <a:ext cx="365760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689360" y="397656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689360" y="428148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689360" y="4586400"/>
                <a:ext cx="365760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689360" y="489096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689360" y="519588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689360" y="5500800"/>
                <a:ext cx="365760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689360" y="580536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689360" y="611028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689360" y="3367080"/>
                <a:ext cx="30481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89360" y="2757600"/>
                <a:ext cx="304920" cy="365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994280" y="2757600"/>
                <a:ext cx="304920" cy="365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299200" y="3367080"/>
                <a:ext cx="304560" cy="304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603760" y="2757600"/>
                <a:ext cx="304920" cy="365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908680" y="3367080"/>
                <a:ext cx="304920" cy="304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213600" y="2757600"/>
                <a:ext cx="304560" cy="365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518160" y="3367080"/>
                <a:ext cx="304920" cy="304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823080" y="2757600"/>
                <a:ext cx="304920" cy="365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128000" y="3367080"/>
                <a:ext cx="304560" cy="304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432560" y="2757600"/>
                <a:ext cx="304920" cy="365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737480" y="2757600"/>
                <a:ext cx="304920" cy="365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042400" y="3367080"/>
                <a:ext cx="304560" cy="304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689360" y="306216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89360" y="2757600"/>
                <a:ext cx="365760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4672080" y="2724120"/>
              <a:ext cx="3713040" cy="3751200"/>
              <a:chOff x="4672080" y="2724120"/>
              <a:chExt cx="3713040" cy="3751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513480" y="2724120"/>
                <a:ext cx="0" cy="3751200"/>
              </a:xfrm>
              <a:prstGeom prst="line">
                <a:avLst/>
              </a:prstGeom>
              <a:ln w="57240">
                <a:solidFill>
                  <a:srgbClr val="9900ff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672080" y="5508720"/>
                <a:ext cx="3713040" cy="1440"/>
              </a:xfrm>
              <a:prstGeom prst="line">
                <a:avLst/>
              </a:prstGeom>
              <a:ln w="57240">
                <a:solidFill>
                  <a:srgbClr val="9900ff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0" name=""/>
          <p:cNvSpPr/>
          <p:nvPr/>
        </p:nvSpPr>
        <p:spPr>
          <a:xfrm>
            <a:off x="6458040" y="4535640"/>
            <a:ext cx="88920" cy="889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10160" y="4591080"/>
            <a:ext cx="3862440" cy="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515280" y="2708280"/>
            <a:ext cx="1440" cy="378936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244520" y="2925720"/>
          <a:ext cx="2216160" cy="3683160"/>
        </p:xfrm>
        <a:graphic>
          <a:graphicData uri="http://schemas.openxmlformats.org/drawingml/2006/table">
            <a:tbl>
              <a:tblPr/>
              <a:tblGrid>
                <a:gridCol w="1108080"/>
                <a:gridCol w="11080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64960" y="3292560"/>
                <a:ext cx="8049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747880" y="3564000"/>
                <a:ext cx="3222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6796080" y="4224240"/>
            <a:ext cx="88920" cy="88920"/>
          </a:xfrm>
          <a:prstGeom prst="ellipse">
            <a:avLst/>
          </a:prstGeom>
          <a:solidFill>
            <a:srgbClr val="006600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503520" y="3797280"/>
                <a:ext cx="90180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2603520" y="4073400"/>
                <a:ext cx="5792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57040" y="4305240"/>
                <a:ext cx="8683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625840" y="4579920"/>
                <a:ext cx="5792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7097760" y="4376880"/>
            <a:ext cx="88920" cy="88920"/>
          </a:xfrm>
          <a:prstGeom prst="ellipse">
            <a:avLst/>
          </a:prstGeom>
          <a:solidFill>
            <a:srgbClr val="006600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380360" y="4454640"/>
            <a:ext cx="88920" cy="88920"/>
          </a:xfrm>
          <a:prstGeom prst="ellipse">
            <a:avLst/>
          </a:prstGeom>
          <a:solidFill>
            <a:srgbClr val="006600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487680" y="4792680"/>
                <a:ext cx="109368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738520" y="5102280"/>
                <a:ext cx="3222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96840" y="5280120"/>
                <a:ext cx="115884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2579760" y="5613480"/>
                <a:ext cx="6127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459240" y="5865840"/>
                <a:ext cx="115884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583000" y="6138720"/>
                <a:ext cx="6127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6168960" y="4830840"/>
            <a:ext cx="88920" cy="88920"/>
          </a:xfrm>
          <a:prstGeom prst="ellipse">
            <a:avLst/>
          </a:prstGeom>
          <a:solidFill>
            <a:srgbClr val="006600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73760" y="4703760"/>
            <a:ext cx="88920" cy="88920"/>
          </a:xfrm>
          <a:prstGeom prst="ellipse">
            <a:avLst/>
          </a:prstGeom>
          <a:solidFill>
            <a:srgbClr val="006600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41840" y="4649760"/>
            <a:ext cx="88920" cy="88920"/>
          </a:xfrm>
          <a:prstGeom prst="ellipse">
            <a:avLst/>
          </a:prstGeom>
          <a:solidFill>
            <a:srgbClr val="006600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84680" y="4665600"/>
            <a:ext cx="1754280" cy="1735200"/>
          </a:xfrm>
          <a:custGeom>
            <a:avLst/>
            <a:gdLst/>
            <a:ahLst/>
            <a:rect l="l" t="t" r="r" b="b"/>
            <a:pathLst>
              <a:path w="1105" h="1093">
                <a:moveTo>
                  <a:pt x="0" y="0"/>
                </a:moveTo>
                <a:cubicBezTo>
                  <a:pt x="217" y="5"/>
                  <a:pt x="435" y="11"/>
                  <a:pt x="564" y="23"/>
                </a:cubicBezTo>
                <a:cubicBezTo>
                  <a:pt x="693" y="35"/>
                  <a:pt x="709" y="48"/>
                  <a:pt x="775" y="70"/>
                </a:cubicBezTo>
                <a:cubicBezTo>
                  <a:pt x="841" y="92"/>
                  <a:pt x="918" y="110"/>
                  <a:pt x="963" y="153"/>
                </a:cubicBezTo>
                <a:cubicBezTo>
                  <a:pt x="1008" y="196"/>
                  <a:pt x="1024" y="235"/>
                  <a:pt x="1046" y="329"/>
                </a:cubicBezTo>
                <a:cubicBezTo>
                  <a:pt x="1068" y="423"/>
                  <a:pt x="1083" y="590"/>
                  <a:pt x="1093" y="717"/>
                </a:cubicBezTo>
                <a:cubicBezTo>
                  <a:pt x="1103" y="844"/>
                  <a:pt x="1103" y="1030"/>
                  <a:pt x="1105" y="1093"/>
                </a:cubicBezTo>
              </a:path>
            </a:pathLst>
          </a:custGeom>
          <a:noFill/>
          <a:ln w="57240">
            <a:solidFill>
              <a:srgbClr val="0066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568920" y="2762280"/>
            <a:ext cx="1773360" cy="1790640"/>
          </a:xfrm>
          <a:custGeom>
            <a:avLst/>
            <a:gdLst/>
            <a:ahLst/>
            <a:rect l="l" t="t" r="r" b="b"/>
            <a:pathLst>
              <a:path w="1117" h="1128">
                <a:moveTo>
                  <a:pt x="1117" y="1128"/>
                </a:moveTo>
                <a:cubicBezTo>
                  <a:pt x="886" y="1122"/>
                  <a:pt x="656" y="1117"/>
                  <a:pt x="529" y="1105"/>
                </a:cubicBezTo>
                <a:cubicBezTo>
                  <a:pt x="402" y="1093"/>
                  <a:pt x="413" y="1086"/>
                  <a:pt x="352" y="1058"/>
                </a:cubicBezTo>
                <a:cubicBezTo>
                  <a:pt x="291" y="1030"/>
                  <a:pt x="211" y="989"/>
                  <a:pt x="164" y="940"/>
                </a:cubicBezTo>
                <a:cubicBezTo>
                  <a:pt x="117" y="891"/>
                  <a:pt x="93" y="856"/>
                  <a:pt x="70" y="764"/>
                </a:cubicBezTo>
                <a:cubicBezTo>
                  <a:pt x="47" y="672"/>
                  <a:pt x="35" y="515"/>
                  <a:pt x="23" y="388"/>
                </a:cubicBezTo>
                <a:cubicBezTo>
                  <a:pt x="11" y="261"/>
                  <a:pt x="5" y="130"/>
                  <a:pt x="0" y="0"/>
                </a:cubicBezTo>
              </a:path>
            </a:pathLst>
          </a:custGeom>
          <a:noFill/>
          <a:ln w="57240">
            <a:solidFill>
              <a:srgbClr val="0066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500"/>
                            </p:stCondLst>
                            <p:childTnLst>
                              <p:par>
                                <p:cTn id="7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95120" y="1117440"/>
                <a:ext cx="833436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Sketch the graph of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phing a Rational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241280" y="2254320"/>
                <a:ext cx="19148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enter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232080" y="2166840"/>
                <a:ext cx="14842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49" name=""/>
          <p:cNvGraphicFramePr/>
          <p:nvPr/>
        </p:nvGraphicFramePr>
        <p:xfrm>
          <a:off x="1244520" y="2925720"/>
          <a:ext cx="2216160" cy="3683160"/>
        </p:xfrm>
        <a:graphic>
          <a:graphicData uri="http://schemas.openxmlformats.org/drawingml/2006/table">
            <a:tbl>
              <a:tblPr/>
              <a:tblGrid>
                <a:gridCol w="1108080"/>
                <a:gridCol w="11080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-23760" y="3398760"/>
                <a:ext cx="12351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652840" y="3564000"/>
                <a:ext cx="5140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424320" y="3852720"/>
                <a:ext cx="128088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603520" y="4073400"/>
                <a:ext cx="5792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0" y="4398840"/>
                <a:ext cx="125244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625840" y="4595760"/>
                <a:ext cx="5810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3446640" y="4867200"/>
                <a:ext cx="127944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610000" y="5086440"/>
                <a:ext cx="5792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2600" y="5354640"/>
                <a:ext cx="12207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595600" y="5613480"/>
                <a:ext cx="5810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3394080" y="6012000"/>
                <a:ext cx="13730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2598840" y="6138720"/>
                <a:ext cx="5810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2" name=""/>
          <p:cNvGrpSpPr/>
          <p:nvPr/>
        </p:nvGrpSpPr>
        <p:grpSpPr>
          <a:xfrm>
            <a:off x="4648320" y="2727360"/>
            <a:ext cx="3806640" cy="3771720"/>
            <a:chOff x="4648320" y="2727360"/>
            <a:chExt cx="3806640" cy="3771720"/>
          </a:xfrm>
        </p:grpSpPr>
        <p:grpSp>
          <p:nvGrpSpPr>
            <p:cNvPr id="263" name=""/>
            <p:cNvGrpSpPr/>
            <p:nvPr/>
          </p:nvGrpSpPr>
          <p:grpSpPr>
            <a:xfrm>
              <a:off x="4689360" y="2757600"/>
              <a:ext cx="3657600" cy="3657600"/>
              <a:chOff x="4689360" y="2757600"/>
              <a:chExt cx="3657600" cy="3657600"/>
            </a:xfrm>
          </p:grpSpPr>
          <p:sp>
            <p:nvSpPr>
              <p:cNvPr id="264" name=""/>
              <p:cNvSpPr/>
              <p:nvPr/>
            </p:nvSpPr>
            <p:spPr>
              <a:xfrm>
                <a:off x="4689360" y="3672000"/>
                <a:ext cx="365760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689360" y="397656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689360" y="428148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689360" y="4586400"/>
                <a:ext cx="365760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689360" y="489096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689360" y="519588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689360" y="5500800"/>
                <a:ext cx="365760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689360" y="580536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689360" y="611028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689360" y="3367080"/>
                <a:ext cx="30481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689360" y="2757600"/>
                <a:ext cx="304920" cy="365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994280" y="2757600"/>
                <a:ext cx="304920" cy="365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299200" y="3367080"/>
                <a:ext cx="304560" cy="304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603760" y="2757600"/>
                <a:ext cx="304920" cy="365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908680" y="3367080"/>
                <a:ext cx="304920" cy="304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213600" y="2757600"/>
                <a:ext cx="304560" cy="365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518160" y="3367080"/>
                <a:ext cx="304920" cy="304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823080" y="2757600"/>
                <a:ext cx="304920" cy="365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128000" y="3367080"/>
                <a:ext cx="304560" cy="304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432560" y="2757600"/>
                <a:ext cx="304920" cy="365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737480" y="2757600"/>
                <a:ext cx="304920" cy="365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042400" y="3367080"/>
                <a:ext cx="304560" cy="304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689360" y="306216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689360" y="2757600"/>
                <a:ext cx="365760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4648320" y="2727360"/>
              <a:ext cx="3806640" cy="3771720"/>
              <a:chOff x="4648320" y="2727360"/>
              <a:chExt cx="3806640" cy="3771720"/>
            </a:xfrm>
          </p:grpSpPr>
          <p:sp>
            <p:nvSpPr>
              <p:cNvPr id="289" name=""/>
              <p:cNvSpPr/>
              <p:nvPr/>
            </p:nvSpPr>
            <p:spPr>
              <a:xfrm>
                <a:off x="4648320" y="3079800"/>
                <a:ext cx="3806640" cy="0"/>
              </a:xfrm>
              <a:prstGeom prst="line">
                <a:avLst/>
              </a:prstGeom>
              <a:ln w="57240">
                <a:solidFill>
                  <a:srgbClr val="9900ff"/>
                </a:solidFill>
                <a:miter/>
                <a:headEnd len="med" type="arrow" w="sm"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602320" y="2727360"/>
                <a:ext cx="0" cy="3771720"/>
              </a:xfrm>
              <a:prstGeom prst="line">
                <a:avLst/>
              </a:prstGeom>
              <a:ln w="57240">
                <a:solidFill>
                  <a:srgbClr val="9900ff"/>
                </a:solidFill>
                <a:miter/>
                <a:headEnd len="med" type="arrow" w="sm"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1" name=""/>
          <p:cNvSpPr/>
          <p:nvPr/>
        </p:nvSpPr>
        <p:spPr>
          <a:xfrm>
            <a:off x="6458040" y="4535640"/>
            <a:ext cx="88920" cy="889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10160" y="4591080"/>
            <a:ext cx="3862440" cy="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6515280" y="2708280"/>
            <a:ext cx="1440" cy="378936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77000" y="3292560"/>
            <a:ext cx="88920" cy="88920"/>
          </a:xfrm>
          <a:prstGeom prst="ellipse">
            <a:avLst/>
          </a:prstGeom>
          <a:solidFill>
            <a:srgbClr val="006600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097760" y="3929040"/>
            <a:ext cx="88920" cy="88920"/>
          </a:xfrm>
          <a:prstGeom prst="ellipse">
            <a:avLst/>
          </a:prstGeom>
          <a:solidFill>
            <a:srgbClr val="006600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97880" y="4230720"/>
            <a:ext cx="88920" cy="88920"/>
          </a:xfrm>
          <a:prstGeom prst="ellipse">
            <a:avLst/>
          </a:prstGeom>
          <a:solidFill>
            <a:srgbClr val="006600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68960" y="5746680"/>
            <a:ext cx="88920" cy="88920"/>
          </a:xfrm>
          <a:prstGeom prst="ellipse">
            <a:avLst/>
          </a:prstGeom>
          <a:solidFill>
            <a:srgbClr val="006600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872320" y="5151600"/>
            <a:ext cx="88920" cy="88560"/>
          </a:xfrm>
          <a:prstGeom prst="ellipse">
            <a:avLst/>
          </a:prstGeom>
          <a:solidFill>
            <a:srgbClr val="006600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41960" y="4836960"/>
            <a:ext cx="88920" cy="88920"/>
          </a:xfrm>
          <a:prstGeom prst="ellipse">
            <a:avLst/>
          </a:prstGeom>
          <a:solidFill>
            <a:srgbClr val="006600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680160" y="2762280"/>
            <a:ext cx="1662120" cy="1641600"/>
          </a:xfrm>
          <a:custGeom>
            <a:avLst/>
            <a:gdLst/>
            <a:ahLst/>
            <a:rect l="l" t="t" r="r" b="b"/>
            <a:pathLst>
              <a:path w="1047" h="1034">
                <a:moveTo>
                  <a:pt x="0" y="0"/>
                </a:moveTo>
                <a:cubicBezTo>
                  <a:pt x="23" y="130"/>
                  <a:pt x="47" y="261"/>
                  <a:pt x="94" y="388"/>
                </a:cubicBezTo>
                <a:cubicBezTo>
                  <a:pt x="141" y="515"/>
                  <a:pt x="186" y="670"/>
                  <a:pt x="282" y="764"/>
                </a:cubicBezTo>
                <a:cubicBezTo>
                  <a:pt x="378" y="858"/>
                  <a:pt x="542" y="907"/>
                  <a:pt x="670" y="952"/>
                </a:cubicBezTo>
                <a:cubicBezTo>
                  <a:pt x="798" y="997"/>
                  <a:pt x="980" y="1022"/>
                  <a:pt x="1047" y="1034"/>
                </a:cubicBezTo>
              </a:path>
            </a:pathLst>
          </a:custGeom>
          <a:noFill/>
          <a:ln w="57240">
            <a:solidFill>
              <a:srgbClr val="0066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684680" y="4759200"/>
            <a:ext cx="1603440" cy="1660680"/>
          </a:xfrm>
          <a:custGeom>
            <a:avLst/>
            <a:gdLst/>
            <a:ahLst/>
            <a:rect l="l" t="t" r="r" b="b"/>
            <a:pathLst>
              <a:path w="1010" h="1046">
                <a:moveTo>
                  <a:pt x="0" y="0"/>
                </a:moveTo>
                <a:cubicBezTo>
                  <a:pt x="129" y="18"/>
                  <a:pt x="258" y="37"/>
                  <a:pt x="387" y="82"/>
                </a:cubicBezTo>
                <a:cubicBezTo>
                  <a:pt x="516" y="127"/>
                  <a:pt x="679" y="172"/>
                  <a:pt x="775" y="270"/>
                </a:cubicBezTo>
                <a:cubicBezTo>
                  <a:pt x="871" y="368"/>
                  <a:pt x="924" y="541"/>
                  <a:pt x="963" y="670"/>
                </a:cubicBezTo>
                <a:cubicBezTo>
                  <a:pt x="1002" y="799"/>
                  <a:pt x="1004" y="983"/>
                  <a:pt x="1010" y="1046"/>
                </a:cubicBezTo>
              </a:path>
            </a:pathLst>
          </a:custGeom>
          <a:noFill/>
          <a:ln w="57240">
            <a:solidFill>
              <a:srgbClr val="0066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5-03-04T12:10:27Z</dcterms:modified>
  <cp:revision>17</cp:revision>
  <dc:subject/>
  <dc:title>Slide 1</dc:title>
</cp:coreProperties>
</file>